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8.wmf" ContentType="image/x-wmf"/>
  <Override PartName="/ppt/media/image13.png" ContentType="image/pn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is Ca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0F114-9666-4DB5-BCFB-607F133768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kentschools.net/rhs/ccarman/etech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6044A-07F1-4834-9B46-7F8458D67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3A939-AA78-4AA4-82AE-E58A1F147D7E}" type="slidenum">
              <a:rPr b="0" lang="en-US" sz="12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87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Times New Roman"/>
              </a:rPr>
              <a:t>http://www.kentschools.net/rhs/ccarman/etech/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88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Times New Roman"/>
              </a:rPr>
              <a:t>Chris Carman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6992-C2B6-4CAF-B750-DF21760D6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40413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6F91-5368-4C75-B82C-057B845D8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416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40413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4160" y="40413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4939-9AAA-4132-9ED0-60EBE030C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6280" y="12949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1680" y="12949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40413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6280" y="40413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1680" y="40413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7D90-D6FF-4731-89C0-73B81D8B7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90F4D-6BCA-4ADD-B104-0DB164309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08E80-5B55-40BD-AFDE-56FB9A717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6F6E9-60FF-4EC3-96C0-63E7A7EC5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54160" y="12949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5F4CF-A073-4C74-9D09-8D60F0D01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0B117-0268-47C6-92C1-537D758AD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525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D1F69-1ECF-4067-9A85-CC7801052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54160" y="12949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520" y="40413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EB6BB-F858-4A1E-B0BF-BA06487E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B7EE-4EE0-4174-A901-B72F48CF4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416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54160" y="40413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6F63F-1EDD-41B5-A7CF-89D9755F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416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40413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4E026-5C32-45F7-AACE-CE2A7FB1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520" y="40413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17358-14D4-4210-B3C2-15B312A0C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416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520" y="40413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54160" y="40413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8BB98-93CB-48A3-A0AA-BB76133B5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6280" y="12949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1680" y="12949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520" y="40413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6280" y="40413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1680" y="40413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A1387-0F42-4F3B-83F7-76DB5EF54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1970-08C6-4058-9BC1-2C2B33DE4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4160" y="12949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2F8C-6480-452C-94F1-93A73F7DB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5D61-D7D2-4C7C-953D-4B2283C02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525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F45F-9562-41AB-8A2A-C1420D21F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4160" y="12949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40413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48FF-1765-4C28-B4FA-82DDC48A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16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4160" y="40413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30E7-98CF-4450-9089-63C5594E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416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40413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F08F-8CC7-4FC6-9287-2F2F0FE6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A9071-4DDC-43F6-A8CA-FA9FB4029B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C385E-EB13-4AAD-A570-05CF2CB0FF2B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thesilver.net/" TargetMode="External"/><Relationship Id="rId2" Type="http://schemas.openxmlformats.org/officeDocument/2006/relationships/hyperlink" Target="http://camstudio.org/" TargetMode="External"/><Relationship Id="rId3" Type="http://schemas.openxmlformats.org/officeDocument/2006/relationships/hyperlink" Target="http://smarttech.com/" TargetMode="External"/><Relationship Id="rId4" Type="http://schemas.openxmlformats.org/officeDocument/2006/relationships/hyperlink" Target="http://camstudio.org/" TargetMode="External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telestream.net/screen-flow/overview.htm" TargetMode="External"/><Relationship Id="rId2" Type="http://schemas.openxmlformats.org/officeDocument/2006/relationships/hyperlink" Target="http://camstudio.org/" TargetMode="External"/><Relationship Id="rId3" Type="http://schemas.openxmlformats.org/officeDocument/2006/relationships/hyperlink" Target="http://smarttech.com/" TargetMode="External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502920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Screencasting:</a:t>
            </a:r>
            <a:br>
              <a:rPr sz="54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ake your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resentations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o the talking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352680" y="4952520"/>
            <a:ext cx="56390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Chris Carman</a:t>
            </a:r>
            <a:endParaRPr b="0" lang="en-US" sz="19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Theodore Roosevelt High School</a:t>
            </a:r>
            <a:endParaRPr b="0" lang="en-US" sz="19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Kent, Ohio</a:t>
            </a:r>
            <a:endParaRPr b="0" lang="en-US" sz="19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ke_ccarman@kentschools.net</a:t>
            </a:r>
            <a:endParaRPr b="0" lang="en-US" sz="19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http://www.kentschools.net/rhs/ccarman/etech/</a:t>
            </a:r>
            <a:endParaRPr b="0" lang="en-US" sz="19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91" name="Picture 5" descr="rider-logo-white"/>
          <p:cNvPicPr/>
          <p:nvPr/>
        </p:nvPicPr>
        <p:blipFill>
          <a:blip r:embed="rId1"/>
          <a:stretch/>
        </p:blipFill>
        <p:spPr>
          <a:xfrm>
            <a:off x="152280" y="4952880"/>
            <a:ext cx="175284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creencasting equipment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80808"/>
                </a:solidFill>
                <a:uFillTx/>
                <a:latin typeface="Tahoma"/>
              </a:rPr>
              <a:t>Required: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computer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microphone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wired or wireless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screencasting software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Internet connection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80808"/>
                </a:solidFill>
                <a:uFillTx/>
                <a:latin typeface="Tahoma"/>
              </a:rPr>
              <a:t>Optional: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headphones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SMARTBoard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drawing tablet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instead of SMARTBoard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25" name="Picture 10" descr="0201081537"/>
          <p:cNvPicPr/>
          <p:nvPr/>
        </p:nvPicPr>
        <p:blipFill>
          <a:blip r:embed="rId1"/>
          <a:srcRect l="0" t="1563" r="0" b="0"/>
          <a:stretch/>
        </p:blipFill>
        <p:spPr>
          <a:xfrm>
            <a:off x="5105520" y="1371600"/>
            <a:ext cx="3403440" cy="25131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0201081534a"/>
          <p:cNvPicPr/>
          <p:nvPr/>
        </p:nvPicPr>
        <p:blipFill>
          <a:blip r:embed="rId2"/>
          <a:srcRect l="0" t="1563" r="0" b="0"/>
          <a:stretch/>
        </p:blipFill>
        <p:spPr>
          <a:xfrm>
            <a:off x="5105520" y="3962520"/>
            <a:ext cx="3403440" cy="2512800"/>
          </a:xfrm>
          <a:prstGeom prst="rect">
            <a:avLst/>
          </a:prstGeom>
          <a:ln w="0">
            <a:noFill/>
          </a:ln>
        </p:spPr>
      </p:pic>
      <p:sp>
        <p:nvSpPr>
          <p:cNvPr id="127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A8890-1F47-40F4-B202-0A6E96D88D42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screencasting process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9" name="Group 7"/>
          <p:cNvGrpSpPr/>
          <p:nvPr/>
        </p:nvGrpSpPr>
        <p:grpSpPr>
          <a:xfrm>
            <a:off x="1981080" y="1371600"/>
            <a:ext cx="5485320" cy="4984200"/>
            <a:chOff x="1981080" y="1371600"/>
            <a:chExt cx="5485320" cy="4984200"/>
          </a:xfrm>
        </p:grpSpPr>
        <p:sp>
          <p:nvSpPr>
            <p:cNvPr id="130" name="AutoShape 6"/>
            <p:cNvSpPr/>
            <p:nvPr/>
          </p:nvSpPr>
          <p:spPr>
            <a:xfrm>
              <a:off x="1981080" y="1371600"/>
              <a:ext cx="5485320" cy="49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cxnSp>
          <p:nvCxnSpPr>
            <p:cNvPr id="131" name="_s37904"/>
            <p:cNvCxnSpPr>
              <a:stCxn id="132" idx="0"/>
              <a:endCxn id="133" idx="2"/>
            </p:cNvCxnSpPr>
            <p:nvPr/>
          </p:nvCxnSpPr>
          <p:spPr>
            <a:xfrm flipV="1">
              <a:off x="4723200" y="4486320"/>
              <a:ext cx="7560" cy="623520"/>
            </a:xfrm>
            <a:prstGeom prst="straightConnector1">
              <a:avLst/>
            </a:prstGeom>
            <a:ln w="28440">
              <a:solidFill>
                <a:srgbClr val="080808"/>
              </a:solidFill>
              <a:miter/>
              <a:headEnd len="lg" type="triangle" w="lg"/>
            </a:ln>
          </p:spPr>
        </p:cxnSp>
        <p:cxnSp>
          <p:nvCxnSpPr>
            <p:cNvPr id="134" name="_s37902"/>
            <p:cNvCxnSpPr>
              <a:stCxn id="133" idx="0"/>
              <a:endCxn id="135" idx="2"/>
            </p:cNvCxnSpPr>
            <p:nvPr/>
          </p:nvCxnSpPr>
          <p:spPr>
            <a:xfrm flipV="1">
              <a:off x="4723200" y="2617200"/>
              <a:ext cx="7560" cy="623520"/>
            </a:xfrm>
            <a:prstGeom prst="straightConnector1">
              <a:avLst/>
            </a:prstGeom>
            <a:ln w="28440">
              <a:solidFill>
                <a:srgbClr val="080808"/>
              </a:solidFill>
              <a:miter/>
              <a:headEnd len="lg" type="triangle" w="lg"/>
            </a:ln>
          </p:spPr>
        </p:cxnSp>
        <p:sp>
          <p:nvSpPr>
            <p:cNvPr id="135" name="_s37896"/>
            <p:cNvSpPr/>
            <p:nvPr/>
          </p:nvSpPr>
          <p:spPr>
            <a:xfrm>
              <a:off x="1981080" y="1371600"/>
              <a:ext cx="5485320" cy="1245960"/>
            </a:xfrm>
            <a:prstGeom prst="roundRect">
              <a:avLst>
                <a:gd name="adj" fmla="val 16667"/>
              </a:avLst>
            </a:prstGeom>
            <a:solidFill>
              <a:srgbClr val="68a2b6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0808"/>
                  </a:solidFill>
                  <a:latin typeface="Times New Roman"/>
                </a:rPr>
                <a:t>Record presentation</a:t>
              </a:r>
              <a:endParaRPr b="0" lang="en-US" sz="32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3" name="_s37899"/>
            <p:cNvSpPr/>
            <p:nvPr/>
          </p:nvSpPr>
          <p:spPr>
            <a:xfrm>
              <a:off x="1981080" y="3240360"/>
              <a:ext cx="5485320" cy="1245960"/>
            </a:xfrm>
            <a:prstGeom prst="roundRect">
              <a:avLst>
                <a:gd name="adj" fmla="val 16667"/>
              </a:avLst>
            </a:prstGeom>
            <a:solidFill>
              <a:srgbClr val="68a2b6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0808"/>
                  </a:solidFill>
                  <a:latin typeface="Times New Roman"/>
                </a:rPr>
                <a:t>Convert video to SWF</a:t>
              </a:r>
              <a:endParaRPr b="0" lang="en-US" sz="32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2" name="_s37903"/>
            <p:cNvSpPr/>
            <p:nvPr/>
          </p:nvSpPr>
          <p:spPr>
            <a:xfrm>
              <a:off x="1981080" y="5109480"/>
              <a:ext cx="5485320" cy="1245960"/>
            </a:xfrm>
            <a:prstGeom prst="roundRect">
              <a:avLst>
                <a:gd name="adj" fmla="val 16667"/>
              </a:avLst>
            </a:prstGeom>
            <a:solidFill>
              <a:srgbClr val="68a2b6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0808"/>
                  </a:solidFill>
                  <a:latin typeface="Times New Roman"/>
                </a:rPr>
                <a:t>Upload to blog or web server</a:t>
              </a:r>
              <a:endParaRPr b="0" lang="en-US" sz="32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sp>
        <p:nvSpPr>
          <p:cNvPr id="136" name="Slide Number Placeholder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2A0B2-039A-4666-B5BA-ACB47C4FB6DF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Four different Windows programs tested: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Bulent’s Screen recorder  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Shareware - $40-80 to register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963af"/>
                </a:solidFill>
                <a:uFillTx/>
                <a:latin typeface="Tahoma"/>
                <a:hlinkClick r:id="rId1"/>
              </a:rPr>
              <a:t>http://www.thesilver.net/</a:t>
            </a: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Camstudio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Freeware – open source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963af"/>
                </a:solidFill>
                <a:uFillTx/>
                <a:latin typeface="Tahoma"/>
                <a:hlinkClick r:id="rId2"/>
              </a:rPr>
              <a:t>http://www.camstudio.org/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SMART Recorder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Free – included with SMARTBoard software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963af"/>
                </a:solidFill>
                <a:uFillTx/>
                <a:latin typeface="Tahoma"/>
                <a:hlinkClick r:id="rId3"/>
              </a:rPr>
              <a:t>http://www.smarttech.com/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Can also be used without a SMARTBoard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Jing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Freeware - $14.95/year for Pro version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963af"/>
                </a:solidFill>
                <a:uFillTx/>
                <a:latin typeface="Tahoma"/>
                <a:hlinkClick r:id="rId4"/>
              </a:rPr>
              <a:t>http://www.jingproject.com/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indows software tested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6" descr=""/>
          <p:cNvPicPr/>
          <p:nvPr/>
        </p:nvPicPr>
        <p:blipFill>
          <a:blip r:embed="rId5"/>
          <a:stretch/>
        </p:blipFill>
        <p:spPr>
          <a:xfrm>
            <a:off x="7391520" y="19051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"/>
          <p:cNvPicPr/>
          <p:nvPr/>
        </p:nvPicPr>
        <p:blipFill>
          <a:blip r:embed="rId6"/>
          <a:stretch/>
        </p:blipFill>
        <p:spPr>
          <a:xfrm>
            <a:off x="7391520" y="32004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"/>
          <p:cNvPicPr/>
          <p:nvPr/>
        </p:nvPicPr>
        <p:blipFill>
          <a:blip r:embed="rId7"/>
          <a:stretch/>
        </p:blipFill>
        <p:spPr>
          <a:xfrm>
            <a:off x="6934320" y="4467240"/>
            <a:ext cx="1790640" cy="885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"/>
          <p:cNvPicPr/>
          <p:nvPr/>
        </p:nvPicPr>
        <p:blipFill>
          <a:blip r:embed="rId8"/>
          <a:stretch/>
        </p:blipFill>
        <p:spPr>
          <a:xfrm>
            <a:off x="7467480" y="5562720"/>
            <a:ext cx="755640" cy="755640"/>
          </a:xfrm>
          <a:prstGeom prst="rect">
            <a:avLst/>
          </a:prstGeom>
          <a:ln w="0">
            <a:noFill/>
          </a:ln>
        </p:spPr>
      </p:pic>
      <p:sp>
        <p:nvSpPr>
          <p:cNvPr id="143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7A687-D84A-4736-AD5B-A1239D389487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ulent’s Screen Recorder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310760"/>
            <a:ext cx="419112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80808"/>
                </a:solidFill>
                <a:uFillTx/>
                <a:latin typeface="Tahoma"/>
              </a:rPr>
              <a:t>Pros: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Most options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With the Movie Lab software you can do almost anything you imagine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Can record separately and synch the audio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Can convert to multiple formats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24280" y="129492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80808"/>
                </a:solidFill>
                <a:uFillTx/>
                <a:latin typeface="Tahoma"/>
              </a:rPr>
              <a:t>Cons: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Costs much less than Camtasia, but it isn’t free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Until it’s registered, it leaves a watermark in each corner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A bit more difficult to use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8001000" y="228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48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8389F-E418-4680-884A-63520EEA6250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amStudio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520" y="1323720"/>
            <a:ext cx="4496040" cy="53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80808"/>
                </a:solidFill>
                <a:uFillTx/>
                <a:latin typeface="Tahoma"/>
              </a:rPr>
              <a:t>Pros: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Record to AVI video file, straight to SWF, or convert between them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Free!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Relatively simple to learn and use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Does many things but the interface stays simple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Comes with its own “lossless” codec that produces crystal clear results with a much smaller file size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24280" y="1325160"/>
            <a:ext cx="419112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80808"/>
                </a:solidFill>
                <a:uFillTx/>
                <a:latin typeface="Tahoma"/>
              </a:rPr>
              <a:t>Cons: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Can’t record audio directly from internal audio if your presentation has sounds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52" name="Picture 7" descr=""/>
          <p:cNvPicPr/>
          <p:nvPr/>
        </p:nvPicPr>
        <p:blipFill>
          <a:blip r:embed="rId1"/>
          <a:stretch/>
        </p:blipFill>
        <p:spPr>
          <a:xfrm>
            <a:off x="8001000" y="228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53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6B42D-506B-4201-80D7-948A2000F390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MART Recorder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80808"/>
                </a:solidFill>
                <a:uFillTx/>
                <a:latin typeface="Tahoma"/>
              </a:rPr>
              <a:t>Pros: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Simplest and easiest interface to use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Free!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Many educators already have the software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Can be used without a SMARTBoard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24280" y="129492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80808"/>
                </a:solidFill>
                <a:uFillTx/>
                <a:latin typeface="Tahoma"/>
              </a:rPr>
              <a:t>Cons: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AVI video file must be converted to SWF for posting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Version 10 requires a SMARTBoard serial number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57" name="Picture 8" descr=""/>
          <p:cNvPicPr/>
          <p:nvPr/>
        </p:nvPicPr>
        <p:blipFill>
          <a:blip r:embed="rId1"/>
          <a:stretch/>
        </p:blipFill>
        <p:spPr>
          <a:xfrm>
            <a:off x="7162920" y="228600"/>
            <a:ext cx="1790640" cy="885960"/>
          </a:xfrm>
          <a:prstGeom prst="rect">
            <a:avLst/>
          </a:prstGeom>
          <a:ln w="0">
            <a:noFill/>
          </a:ln>
        </p:spPr>
      </p:pic>
      <p:sp>
        <p:nvSpPr>
          <p:cNvPr id="158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3DA9E-9613-46D3-B19C-57127774B53D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Jing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80808"/>
                </a:solidFill>
                <a:uFillTx/>
                <a:latin typeface="Tahoma"/>
              </a:rPr>
              <a:t>Pros: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Simple and easy interface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Free!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Saves directly to Flash video without additional encoding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Can select portion of screen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Can also do screenshots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24280" y="129492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80808"/>
                </a:solidFill>
                <a:uFillTx/>
                <a:latin typeface="Tahoma"/>
              </a:rPr>
              <a:t>Cons: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Free version limited to 5 minutes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Can only save as Flash video (Pro can save as MP4)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62" name="Picture 5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755640" cy="755640"/>
          </a:xfrm>
          <a:prstGeom prst="rect">
            <a:avLst/>
          </a:prstGeom>
          <a:ln w="0">
            <a:noFill/>
          </a:ln>
        </p:spPr>
      </p:pic>
      <p:sp>
        <p:nvSpPr>
          <p:cNvPr id="163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F241F-10FA-4DEC-8F05-C645B3F0A22F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Three different Mac programs tested: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ScreenFlow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Shareware - $99 to register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963af"/>
                </a:solidFill>
                <a:uFillTx/>
                <a:latin typeface="Tahoma"/>
                <a:hlinkClick r:id="rId1"/>
              </a:rPr>
              <a:t>http://www.telestream.net/screen-flow/overview.htm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Jing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Freeware - $14.95/year for Pro version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963af"/>
                </a:solidFill>
                <a:uFillTx/>
                <a:latin typeface="Tahoma"/>
                <a:hlinkClick r:id="rId2"/>
              </a:rPr>
              <a:t>http://www.jingproject.com/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SMART Recorder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Free – included with SMARTBoard software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963af"/>
                </a:solidFill>
                <a:uFillTx/>
                <a:latin typeface="Tahoma"/>
                <a:hlinkClick r:id="rId3"/>
              </a:rPr>
              <a:t>http://www.smarttech.com/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Can also be used without a SMARTBoard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ac software tested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8" descr=""/>
          <p:cNvPicPr/>
          <p:nvPr/>
        </p:nvPicPr>
        <p:blipFill>
          <a:blip r:embed="rId4"/>
          <a:stretch/>
        </p:blipFill>
        <p:spPr>
          <a:xfrm>
            <a:off x="6934320" y="4772160"/>
            <a:ext cx="1790640" cy="885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"/>
          <p:cNvPicPr/>
          <p:nvPr/>
        </p:nvPicPr>
        <p:blipFill>
          <a:blip r:embed="rId5"/>
          <a:stretch/>
        </p:blipFill>
        <p:spPr>
          <a:xfrm>
            <a:off x="7315200" y="3429000"/>
            <a:ext cx="1060560" cy="10605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"/>
          <p:cNvPicPr/>
          <p:nvPr/>
        </p:nvPicPr>
        <p:blipFill>
          <a:blip r:embed="rId6"/>
          <a:stretch/>
        </p:blipFill>
        <p:spPr>
          <a:xfrm>
            <a:off x="7316640" y="1905120"/>
            <a:ext cx="1022400" cy="990360"/>
          </a:xfrm>
          <a:prstGeom prst="rect">
            <a:avLst/>
          </a:prstGeom>
          <a:ln w="0">
            <a:noFill/>
          </a:ln>
        </p:spPr>
      </p:pic>
      <p:sp>
        <p:nvSpPr>
          <p:cNvPr id="169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F5245-0881-412D-B66E-1DC6A99F9AD1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creenFlow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880" y="1310760"/>
            <a:ext cx="419112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80808"/>
                </a:solidFill>
                <a:uFillTx/>
                <a:latin typeface="Tahoma"/>
              </a:rPr>
              <a:t>Pros: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Most options - extremely powerful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Can crop &amp; resize video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Can record audio separately and synch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Can add in outside video clips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Can convert to multiple formats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24280" y="129492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80808"/>
                </a:solidFill>
                <a:uFillTx/>
                <a:latin typeface="Tahoma"/>
              </a:rPr>
              <a:t>Cons: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Not free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Until it’s registered, it’s limited to 2 minutes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Lots of options make it a bit more difficult to use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73" name="Picture 5" descr=""/>
          <p:cNvPicPr/>
          <p:nvPr/>
        </p:nvPicPr>
        <p:blipFill>
          <a:blip r:embed="rId1"/>
          <a:stretch/>
        </p:blipFill>
        <p:spPr>
          <a:xfrm>
            <a:off x="7924680" y="152280"/>
            <a:ext cx="1020960" cy="990720"/>
          </a:xfrm>
          <a:prstGeom prst="rect">
            <a:avLst/>
          </a:prstGeom>
          <a:ln w="0">
            <a:noFill/>
          </a:ln>
        </p:spPr>
      </p:pic>
      <p:sp>
        <p:nvSpPr>
          <p:cNvPr id="174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2381E-5F27-4AFA-9ACD-E27E45B78CAC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Use a wireless mic for more interactive lesson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Make a shortened, focused screencast that can be paused for more complex lesson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est your audio input first to make sure it’s not too loud or too soft!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Recording the audio separately and then synchronizing it works, but it’s a lot of work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me screencasting tips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9282B-D7BB-4C3D-8481-54D7A2294E4D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screencasting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captures what is displayed on a computer screen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accompanied by explanatory commentary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…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just a fancy term for recording a movie of your computer screen to a file that others can view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94" name="Picture 5" descr="0201081530"/>
          <p:cNvPicPr/>
          <p:nvPr/>
        </p:nvPicPr>
        <p:blipFill>
          <a:blip r:embed="rId1"/>
          <a:stretch/>
        </p:blipFill>
        <p:spPr>
          <a:xfrm>
            <a:off x="4724280" y="2352600"/>
            <a:ext cx="4191120" cy="3143160"/>
          </a:xfrm>
          <a:prstGeom prst="rect">
            <a:avLst/>
          </a:prstGeom>
          <a:ln w="0">
            <a:noFill/>
          </a:ln>
        </p:spPr>
      </p:pic>
      <p:sp>
        <p:nvSpPr>
          <p:cNvPr id="95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06C1D-0915-496D-B4CD-CE7A17907A7F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http://screencastingprimer.wikispaces.com/primer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Screencasting primer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http://www.oreillynet.com/pub/a/oreilly/digitalmedia/2005/11/16/what-is-screencasting.html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Another primer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http://labnol.blogspot.com/2005/05/screencasting-to-help-your-mom.html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Primer and review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creencasting web resources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15044-46AA-40D0-93A4-BCB2E89D713E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http://www.shambles.net/pages/staff/screencast/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Review of software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http://www.donationcoder.com/Reviews/Archive/ScreenCasting/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Review of software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http://youtube.com/watch?v=6ZuktL23XI8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Teacher tutorial of BSR and Recorder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http://www.teachertube.com/view_video.php?viewkey=90f19c78c75bd1e06f21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Tutorial of camstudio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indows web resources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29C6C-1BD9-435C-B0E4-FE1168997342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ossible uses for screencasting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as a recording of a classroom lesson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as standalone tutorials, software demos, or orientation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to clarify complex technical concepts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to teach/demonstrate how to use a piece of software or a web service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98" name="Picture 8" descr="0201081531"/>
          <p:cNvPicPr/>
          <p:nvPr/>
        </p:nvPicPr>
        <p:blipFill>
          <a:blip r:embed="rId1"/>
          <a:stretch/>
        </p:blipFill>
        <p:spPr>
          <a:xfrm>
            <a:off x="4724280" y="2352600"/>
            <a:ext cx="4191120" cy="3143160"/>
          </a:xfrm>
          <a:prstGeom prst="rect">
            <a:avLst/>
          </a:prstGeom>
          <a:ln w="0">
            <a:noFill/>
          </a:ln>
        </p:spPr>
      </p:pic>
      <p:sp>
        <p:nvSpPr>
          <p:cNvPr id="9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2239A-A156-4E04-857B-52C4A599E43B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odcasting vs. screencast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80808"/>
                </a:solidFill>
                <a:uFillTx/>
                <a:latin typeface="Tahoma"/>
              </a:rPr>
              <a:t>Podcasting: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audio only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good primarily for aural learners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can be played in almost any media program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generally easy to edit after recorded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24280" y="129492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80808"/>
                </a:solidFill>
                <a:uFillTx/>
                <a:latin typeface="Tahoma"/>
              </a:rPr>
              <a:t>Screencasting: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audio and video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good for visual and aural learners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generally played in web browsers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more challenging to edit after recorded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3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2A3E-6BD5-4EBD-8D9F-16032BB515EF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y screencast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more engaging and interactive than written instructions, static photos or illustrations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the screencasting medium can communicate what otherwise cannot be explained easily, if at all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06" name="Picture 8" descr="MCj04339420000[1]"/>
          <p:cNvPicPr/>
          <p:nvPr/>
        </p:nvPicPr>
        <p:blipFill>
          <a:blip r:embed="rId1"/>
          <a:stretch/>
        </p:blipFill>
        <p:spPr>
          <a:xfrm>
            <a:off x="5181480" y="1828800"/>
            <a:ext cx="3198960" cy="3198960"/>
          </a:xfrm>
          <a:prstGeom prst="rect">
            <a:avLst/>
          </a:prstGeom>
          <a:ln w="0">
            <a:noFill/>
          </a:ln>
        </p:spPr>
      </p:pic>
      <p:sp>
        <p:nvSpPr>
          <p:cNvPr id="107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6AD0D-DB3C-406F-B431-AB3745B421FD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y screencast?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(continued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varied media appeals to different learning style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relative ease of use and low cos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hare information in an intuitive and effective way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an easily be published and distributed via blogs, tags, video hosting services and Web 2.0 site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9CE6A-524D-4829-A733-D189FD2C06FD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y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screencast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343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increased communication with students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accommodates multiple learning styles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students who miss a class due to illness can stay with the entire classroom discussion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great for when you’re out of the classroom!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13" name="Picture 9" descr="MCj04241780000[1]"/>
          <p:cNvPicPr/>
          <p:nvPr/>
        </p:nvPicPr>
        <p:blipFill>
          <a:blip r:embed="rId1"/>
          <a:stretch/>
        </p:blipFill>
        <p:spPr>
          <a:xfrm>
            <a:off x="5486400" y="2057400"/>
            <a:ext cx="2806560" cy="3201840"/>
          </a:xfrm>
          <a:prstGeom prst="rect">
            <a:avLst/>
          </a:prstGeom>
          <a:ln w="0">
            <a:noFill/>
          </a:ln>
        </p:spPr>
      </p:pic>
      <p:sp>
        <p:nvSpPr>
          <p:cNvPr id="114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E30A8-3422-4B52-848F-790C045C68D5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y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screencast: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(continued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when things get complicated, students can see it more than once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having the screencast available on the web 24/7 can help save time and provide "just in time" access to students and parents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17" name="Picture 8" descr="MCj04158580000[1]"/>
          <p:cNvPicPr/>
          <p:nvPr/>
        </p:nvPicPr>
        <p:blipFill>
          <a:blip r:embed="rId1"/>
          <a:stretch/>
        </p:blipFill>
        <p:spPr>
          <a:xfrm>
            <a:off x="5334120" y="2666880"/>
            <a:ext cx="3198600" cy="2373480"/>
          </a:xfrm>
          <a:prstGeom prst="rect">
            <a:avLst/>
          </a:prstGeom>
          <a:ln w="0">
            <a:noFill/>
          </a:ln>
        </p:spPr>
      </p:pic>
      <p:sp>
        <p:nvSpPr>
          <p:cNvPr id="118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28A44-9C80-4BA6-878B-80B18C6650B8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80880" y="2285640"/>
            <a:ext cx="4191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If a picture is worth a thousand words, maybe a movie is worth a thousand pictures...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 thought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12" descr="MPj04072260000[1]"/>
          <p:cNvPicPr/>
          <p:nvPr/>
        </p:nvPicPr>
        <p:blipFill>
          <a:blip r:embed="rId1"/>
          <a:stretch/>
        </p:blipFill>
        <p:spPr>
          <a:xfrm>
            <a:off x="4724280" y="2247840"/>
            <a:ext cx="4191120" cy="3353040"/>
          </a:xfrm>
          <a:prstGeom prst="rect">
            <a:avLst/>
          </a:prstGeom>
          <a:ln w="0">
            <a:noFill/>
          </a:ln>
        </p:spPr>
      </p:pic>
      <p:sp>
        <p:nvSpPr>
          <p:cNvPr id="122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87D54-9A76-4851-9844-382210D7F316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17:55:24Z</dcterms:created>
  <dc:creator>R. Mitch Lambert</dc:creator>
  <dc:description/>
  <dc:language>en-US</dc:language>
  <cp:lastModifiedBy>Administratr</cp:lastModifiedBy>
  <cp:lastPrinted>2009-02-03T02:40:15Z</cp:lastPrinted>
  <dcterms:modified xsi:type="dcterms:W3CDTF">2010-01-29T02:34:42Z</dcterms:modified>
  <cp:revision>25</cp:revision>
  <dc:subject/>
  <dc:title>Screencasting</dc:title>
</cp:coreProperties>
</file>